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A5786-F6C0-4AEF-8835-DA0832F9E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257F2-D8EC-4ED7-82CF-FFB4244BC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75596-F29B-4420-9E0A-388986E3B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18DC3-EA52-423C-921E-CBD108F78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660C4-187E-45C9-935F-091B6D8C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324CE-B45C-4888-8AD6-3857C81F2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306E9-F14A-4433-BEFA-6F995F388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BA084-DA47-4A69-9FD9-A00B7D0BD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2551D-E994-4338-BF44-ADEBE0761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78BA-B542-4B14-B9B6-1223D445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93F28-7F56-4DFD-AD07-5AE690BC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A7FF-5E48-4B00-B761-427FE3923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ED57-A864-4BBC-AE8B-7903F5CF6A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roduction-Quality Driver</a:t>
            </a:r>
            <a:br>
              <a:rPr sz="4000"/>
            </a:br>
            <a:r>
              <a:rPr b="0" lang="en-US" sz="4000" spc="-1" strike="noStrike">
                <a:solidFill>
                  <a:srgbClr val="000000"/>
                </a:solidFill>
                <a:latin typeface="Arial"/>
              </a:rPr>
              <a:t>for Berkeley DB</a:t>
            </a:r>
            <a:br>
              <a:rPr sz="4000"/>
            </a:br>
            <a:r>
              <a:rPr b="0" lang="en-US" sz="4000" spc="-1" strike="noStrike">
                <a:solidFill>
                  <a:srgbClr val="000000"/>
                </a:solidFill>
                <a:latin typeface="Arial"/>
              </a:rPr>
              <a:t>Using the Erlang Driver Toolkit </a:t>
            </a:r>
            <a:endParaRPr b="0" lang="en-US" sz="4000" spc="-1" strike="noStrike">
              <a:solidFill>
                <a:srgbClr val="000000"/>
              </a:solidFill>
              <a:latin typeface="Arial"/>
            </a:endParaRPr>
          </a:p>
        </p:txBody>
      </p:sp>
      <p:sp>
        <p:nvSpPr>
          <p:cNvPr id="42" name=""/>
          <p:cNvSpPr/>
          <p:nvPr/>
        </p:nvSpPr>
        <p:spPr>
          <a:xfrm>
            <a:off x="533520" y="5943600"/>
            <a:ext cx="474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ris.newcombe@gmail.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Automated Clean-Up is Vita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rlang process may crash while holding open cursors and/or transactions, which may hold lo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closed/aborted, the locks will deadlock other BDB threa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to-1 Erlang/Port model guarantee clean-up if the Erlang process dies (or if the port 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lternative must do likew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 server?</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open ports (ideally 1) implies a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ordinate BDB startup/shutd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ink to clients to know to do clean-u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che expensive DB handles (</a:t>
            </a:r>
            <a:r>
              <a:rPr b="1" lang="en-US" sz="2400" spc="-1" strike="noStrike">
                <a:solidFill>
                  <a:srgbClr val="000000"/>
                </a:solidFill>
                <a:latin typeface="Arial"/>
              </a:rPr>
              <a:t>but valmaps will need to support concurrent ac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ndle BDB configuration housekeeping, replication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even abstract BDB entirel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s API is sometimes dangerous: e.g. a single txn_commit/abort with an open cursors will panic the entir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 ser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must either spawn an Erlang worker per client and hand-off the session, or issue </a:t>
            </a:r>
            <a:r>
              <a:rPr b="0" i="1" lang="en-US" sz="2000" spc="-1" strike="noStrike">
                <a:solidFill>
                  <a:srgbClr val="000000"/>
                </a:solidFill>
                <a:latin typeface="Arial"/>
              </a:rPr>
              <a:t>non-blocking</a:t>
            </a:r>
            <a:r>
              <a:rPr b="0" lang="en-US" sz="2000" spc="-1" strike="noStrike">
                <a:solidFill>
                  <a:srgbClr val="000000"/>
                </a:solidFill>
                <a:latin typeface="Arial"/>
              </a:rPr>
              <a:t> BDB commands on behalf of clients and forward the replies to clients (and handle timeouts etc)</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ter case implies lots of state to track/update (for hundreds/thousands of cli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o per-client cleanup, server needs to track which transactions/cursors are owned by that clie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what duplicates EDTK’s valmap cod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 complex API to write (or generate with EDTK) and mainta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ll commands and responses go through an extra hop.  (Probably not an issue, but nice to avoid if it’s eas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bout half-a-server?</a:t>
            </a:r>
            <a:br>
              <a:rPr sz="4000"/>
            </a:br>
            <a:r>
              <a:rPr b="0" lang="en-US" sz="3600" spc="-1" strike="noStrike">
                <a:solidFill>
                  <a:srgbClr val="000000"/>
                </a:solidFill>
                <a:latin typeface="Arial"/>
              </a:rPr>
              <a:t>The PortCoordinator</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uses driver_output_term to reply to Erla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ing the documentation, I notic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_send_term  : sends a message to an arbitrary Erlang p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_caller   : returns pid of process that send the current command to the drive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emove the need for BDB commands/replies to go through the ser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 instance itself is now almost a BDB serv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write/maintain another AP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tra hop for commands/repli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still need a bit of a server on the Erlang si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shutdown coordination, house-keeping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 get_port(), release_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 get_db_hand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up somehow if clients cra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Coordinator Problem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lients send txn_begin etc. directly to the port, how does the server do clean-up if a client crash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 leverage EDTK’s c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_port() links to client process and returns a unique ‘group valmap id’ (an unsigned int, wraps at 2^32 and that’s O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DTK valmap “start” operations require a group_valmap_id parame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 code stores the group_valmap_id with the valmap valu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EDTK command ‘group_valmap_cleanup’ cleans-up all valmap entries (of any valmap type) owned by the same group-id.</a:t>
            </a:r>
            <a:br>
              <a:rPr sz="1800"/>
            </a:br>
            <a:r>
              <a:rPr b="0" lang="en-US" sz="1800" spc="-1" strike="noStrike">
                <a:solidFill>
                  <a:srgbClr val="000000"/>
                </a:solidFill>
                <a:latin typeface="Arial"/>
              </a:rPr>
              <a:t>Implementation is a bit tricky as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f the operations to be cleaned up may still be in-progress or enqueued for later process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maps must be cleaned-up in order of type (all DB_TXN before DB)</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on’t want to block the Erlang VM threa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yance: clients MUST pass the right group_valmap_id, and must NOT share it with other processes.  Solved l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Coordinator Problem #2</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ipe-mode, driver_caller and driver_send_term are are not avail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stub for driver_send_term that just calls driver_output_ter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lies go to the port’s connected process (i.e. the serve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rver needs to forward the replies to clients, but how does it know where to send the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ag all comman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 is currently {Ref, SenderPi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 allows safe non-blocking use of BDB commands, as we can always associate replies with the correct comm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does not support marshalling of refs or pids.</a:t>
            </a:r>
            <a:br>
              <a:rPr sz="2000"/>
            </a:br>
            <a:r>
              <a:rPr b="0" lang="en-US" sz="2000" spc="-1" strike="noStrike">
                <a:solidFill>
                  <a:srgbClr val="000000"/>
                </a:solidFill>
                <a:latin typeface="Arial"/>
              </a:rPr>
              <a:t>Fortunately the tag should be treated as an opaque token, so I just run the tag through term_to_binary. </a:t>
            </a:r>
            <a:br>
              <a:rPr sz="2000"/>
            </a:br>
            <a:r>
              <a:rPr b="0" lang="en-US" sz="2000" spc="-1" strike="noStrike">
                <a:solidFill>
                  <a:srgbClr val="000000"/>
                </a:solidFill>
                <a:latin typeface="Arial"/>
              </a:rPr>
              <a:t>So in linked-mode the tag is not even cop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rrency Issue #2</a:t>
            </a:r>
            <a:br>
              <a:rPr sz="2800"/>
            </a:br>
            <a:r>
              <a:rPr b="0" lang="en-US" sz="2800" spc="-1" strike="noStrike">
                <a:solidFill>
                  <a:srgbClr val="000000"/>
                </a:solidFill>
                <a:latin typeface="Arial"/>
              </a:rPr>
              <a:t>Multiplexing Erlang Processes to OS Threads</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is obviously IO-intens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uses blocking IO (for port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BDB does not create threads of it’s own, it blocks the caller’s thr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 good fit for the Erlang VM’s async threadpoo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BDB operations block for a very long time, or unbounded time -- e.g. db_get(CONSUME_WAIT).  </a:t>
            </a:r>
            <a:br>
              <a:rPr sz="2000"/>
            </a:br>
            <a:r>
              <a:rPr b="0" lang="en-US" sz="2000" spc="-1" strike="noStrike">
                <a:solidFill>
                  <a:srgbClr val="000000"/>
                </a:solidFill>
                <a:latin typeface="Arial"/>
              </a:rPr>
              <a:t>This would play havoc with essential Erlang drivers like erl_file that use the VM’s async threadp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eed to avoid several kinds of self-deadlock</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ipe-mode, it obviously blocks the whole external OS process (no thread-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hreading issues: </a:t>
            </a:r>
            <a:br>
              <a:rPr sz="4000"/>
            </a:br>
            <a:r>
              <a:rPr b="0" lang="en-US" sz="4000" spc="-1" strike="noStrike">
                <a:solidFill>
                  <a:srgbClr val="000000"/>
                </a:solidFill>
                <a:latin typeface="Arial"/>
              </a:rPr>
              <a:t>self-deadlocks due to BDB lock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multi-step transactions were designed for thread-per-transa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based on worker thread-pools can use them, but must be careful if the threads have que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1 owns a transaction handle that owns a BDB lock on a database p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2 attempts to do a BDB read/write that blocks on that BDB lock.  The operation blocks worker-thread 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1 attempts to commit or abort it’s transaction (release the BDB-lock).  If this operation happens to be enqueued so that only worker-thread T can process it, then we have a self-dead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 has a built-in deadlock detector for resolving deadlocks amongst it’s </a:t>
            </a:r>
            <a:r>
              <a:rPr b="0" i="1" lang="en-US" sz="2000" spc="-1" strike="noStrike">
                <a:solidFill>
                  <a:srgbClr val="000000"/>
                </a:solidFill>
                <a:latin typeface="Arial"/>
              </a:rPr>
              <a:t>own</a:t>
            </a:r>
            <a:r>
              <a:rPr b="0" lang="en-US" sz="2000" spc="-1" strike="noStrike">
                <a:solidFill>
                  <a:srgbClr val="000000"/>
                </a:solidFill>
                <a:latin typeface="Arial"/>
              </a:rPr>
              <a:t> locks.  That mechanism does </a:t>
            </a:r>
            <a:r>
              <a:rPr b="0" i="1" lang="en-US" sz="2000" spc="-1" strike="noStrike">
                <a:solidFill>
                  <a:srgbClr val="000000"/>
                </a:solidFill>
                <a:latin typeface="Arial"/>
              </a:rPr>
              <a:t>not</a:t>
            </a:r>
            <a:r>
              <a:rPr b="0" lang="en-US" sz="2000" spc="-1" strike="noStrike">
                <a:solidFill>
                  <a:srgbClr val="000000"/>
                </a:solidFill>
                <a:latin typeface="Arial"/>
              </a:rPr>
              <a:t> help in this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Erlang VM Async Thread-Pool</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ool shared by all drivers that call driver_asy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number of threads (‘erl +A5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hread has it’s own producer/consumer que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ork is assigned to threads on a round-robin bas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 some threads may be idle while others have items waiting in their queues (ineffici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_async has a ‘int * key’ parameter.  If non-null then it chooses a thread based on *ke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rl_driver uses (or may one-day use) the file-descriptor as *key, so all operations on the same file are serializ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algorithm is not documented: in R10B it is a simple *key modulo number-of-thread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ously not available to pipe-driv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ing option: #1</a:t>
            </a:r>
            <a:br>
              <a:rPr sz="4000"/>
            </a:br>
            <a:r>
              <a:rPr b="0" lang="en-US" sz="4000" spc="-1" strike="noStrike">
                <a:solidFill>
                  <a:srgbClr val="000000"/>
                </a:solidFill>
                <a:latin typeface="Arial"/>
              </a:rPr>
              <a:t>driver_async with appropriate *key</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ery transaction had it’s own thread, the previously-described deadlock could not happ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TK stores transaction handles in a ‘valmap’ array – a plain C array.  So we could use the array index as *k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is still has major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ize thread-pool at runtime, so </a:t>
            </a:r>
            <a:r>
              <a:rPr b="1" lang="en-US" sz="2000" spc="-1" strike="noStrike">
                <a:solidFill>
                  <a:srgbClr val="000000"/>
                </a:solidFill>
                <a:latin typeface="Arial"/>
              </a:rPr>
              <a:t>requires</a:t>
            </a:r>
            <a:r>
              <a:rPr b="0" lang="en-US" sz="2000" spc="-1" strike="noStrike">
                <a:solidFill>
                  <a:srgbClr val="000000"/>
                </a:solidFill>
                <a:latin typeface="Arial"/>
              </a:rPr>
              <a:t> that ‘erl +A’ specifies at least as many threads as concurrent transactions (specified in berkeley_db.xml), or could still dead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BDB operations do IO, and may block for any amount of time: txn_checkpoint, memp_trickle, db_get(CONSUME_WAI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plication is enabled, threads executing txn_commit/abort block until replicas acknowledge receipt of the upd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Erlang drivers share the same thread-pool, and so may block for a long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EDT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EDTK v1.1 (the last rel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TK bug fi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TK enhanc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B driver bug-fi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B driver enha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ing #2: Private Driver Threadpool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problems would disappear if each port instance had its own private threadp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ly leg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call any Erlang VM code from worker threa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river_select to register a file descriptor.  Write to the file descriptor when we have responses read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d becomes writable, the VM calls our ready_input callback.  A small bit of code calls our ready_async callback (just as the VM would do), to send the reply back to Erla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at the VM’s erl_async.c code, this is basically what the VM’s implementation does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we’re at it, solve some of the proble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queue feeds all of the threads.  Threads consume the next item as soon as they finish the last.  No more idle threads if there is work available, and no deadlocks due to fixed-choice of threa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driver command to resize the thread-pool at runtime (ops. 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te thread-pools in </a:t>
            </a:r>
            <a:br>
              <a:rPr sz="3600"/>
            </a:br>
            <a:r>
              <a:rPr b="0" lang="en-US" sz="3600" spc="-1" strike="noStrike">
                <a:solidFill>
                  <a:srgbClr val="000000"/>
                </a:solidFill>
                <a:latin typeface="Arial"/>
              </a:rPr>
              <a:t>pipe-driver mode</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feature parity with linked-in m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N Erlang processes using BDB would have spawned N external OS proces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with PortCoordinator server: 1 server (with N clients) has 1 port instance, which has 1 external OS proces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less performance and almost immediate self-deadlock</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pipe-main supports private thread-pools, the PortCoordinator threading model is fine (the sa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much code.  Main thread pretends to be V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s a driver_select stub, and stores the f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s on stdin and the fd registered by driver_sel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outputv for data from stdin, and ready_input if fd is read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count driver binaries and free them as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till some deadlock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different scenario/reas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ad-pool has N thread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lang process P0 owns a transaction handle that owns a BDB lock on a database pa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lang processes P1..PN do read/write operations that happen to block on that BDB lock.  i.e. Those operations tie-up (block) all worker thread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urther operations are possible, including committing/aborting the transaction that owns the loc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reads is obviously not guaranteed to solve it (other operations may fil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Part #1</a:t>
            </a:r>
            <a:br>
              <a:rPr sz="2800"/>
            </a:br>
            <a:r>
              <a:rPr b="1" lang="en-US" sz="2800" spc="-1" strike="noStrike">
                <a:solidFill>
                  <a:srgbClr val="000000"/>
                </a:solidFill>
                <a:latin typeface="Arial"/>
              </a:rPr>
              <a:t>Multiple</a:t>
            </a:r>
            <a:r>
              <a:rPr b="0" lang="en-US" sz="2800" spc="-1" strike="noStrike">
                <a:solidFill>
                  <a:srgbClr val="000000"/>
                </a:solidFill>
                <a:latin typeface="Arial"/>
              </a:rPr>
              <a:t> private thread-pools per port instance</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driver commands can choose a thread-pool via an XML attribute.  (Default is thread-pool #0)</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read-pools can be resized dynamically and independently.</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 driver currently uses 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General workers (e.g. put/get/misc. oper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All valmap 'stop' operations; e.g. txn_begin, txn_abort, c_close, group_valmap_cleanup.  Also, explicit deadlock detection if configured.</a:t>
            </a:r>
            <a:br>
              <a:rPr sz="1800"/>
            </a:br>
            <a:r>
              <a:rPr b="0" lang="en-US" sz="1800" spc="-1" strike="noStrike">
                <a:solidFill>
                  <a:srgbClr val="000000"/>
                </a:solidFill>
                <a:latin typeface="Arial"/>
              </a:rPr>
              <a:t>i.e.   Anything that can release locks without obtaining locks itself.</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db_get(CONSUME_WAIT).  This can block for arbitrary time, so we don't want to tie up general worker threa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House-keeping operations that might take a long time; e.g.  txn_checkpoint, memp_trickle (the latter flushes dirty pages to disk to minimize IO-intrusiveness of check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still a problem:</a:t>
            </a:r>
            <a:br>
              <a:rPr sz="3600"/>
            </a:br>
            <a:r>
              <a:rPr b="0" lang="en-US" sz="3600" spc="-1" strike="noStrike">
                <a:solidFill>
                  <a:srgbClr val="000000"/>
                </a:solidFill>
                <a:latin typeface="Arial"/>
              </a:rPr>
              <a:t>Solution Part #2</a:t>
            </a:r>
            <a:endParaRPr b="0"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hread-pools allows P0 to commit or abort.  </a:t>
            </a:r>
            <a:br>
              <a:rPr sz="2400"/>
            </a:br>
            <a:r>
              <a:rPr b="0" lang="en-US" sz="2400" spc="-1" strike="noStrike">
                <a:solidFill>
                  <a:srgbClr val="000000"/>
                </a:solidFill>
                <a:latin typeface="Arial"/>
              </a:rPr>
              <a:t>But if it does another put/get, then it still deadlocks</a:t>
            </a:r>
            <a:br>
              <a:rPr sz="2400"/>
            </a:br>
            <a:r>
              <a:rPr b="0" lang="en-US" sz="2400" spc="-1" strike="noStrike">
                <a:solidFill>
                  <a:srgbClr val="000000"/>
                </a:solidFill>
                <a:latin typeface="Arial"/>
              </a:rPr>
              <a:t>(because it uses thread-pool #0, which is totally block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Have a dedicated thread for each transaction as before (i.e. N thread-pools each with 1 thread, selected by valmap db_txn index).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olved the original problems with that approach:</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own the thread-pools, we don’t need to gamble on ‘erl +A’</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wn the selection function (modulo/hashing)</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till have dedicated pools for db_get(CONSUME_WAIT), house-keeping. etc.</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is is hugely wasteful solution for a very rare condition (all threads blocked on locks). If we want to allow 1,000+ concurrent BDB transactions at peak, we need 1,000+ OS thre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Part #2 : timeou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Size thread-pools based on load/performance testing, and use per-operation timeouts to detect rare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 kills the blocked Erlang process, so the port coordinator runs group_valmap_cleanup, which releases lo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s the deadlocks, but may thrash against the limit when overloaded.  </a:t>
            </a:r>
            <a:br>
              <a:rPr sz="2000"/>
            </a:br>
            <a:r>
              <a:rPr b="0" lang="en-US" sz="2000" spc="-1" strike="noStrike">
                <a:solidFill>
                  <a:srgbClr val="000000"/>
                </a:solidFill>
                <a:latin typeface="Arial"/>
              </a:rPr>
              <a:t>May want to detect that condition and increase #threads, reduce max #transactions, reduce max #port coordinator clients,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mplemented a limit on each thread-pool’s queue length, to detect totally-stuck drivers before they fill memory.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DB get’s stuck due to a bug, reboot the Erlang no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limit can be changed at run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ying timeouts: </a:t>
            </a:r>
            <a:br>
              <a:rPr sz="4000"/>
            </a:br>
            <a:r>
              <a:rPr b="0" lang="en-US" sz="4000" spc="-1" strike="noStrike">
                <a:solidFill>
                  <a:srgbClr val="000000"/>
                </a:solidFill>
                <a:latin typeface="Arial"/>
              </a:rPr>
              <a:t>default argument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want to add a timeout argument to all EDTK calls; there are too many arguments alrea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able default will do, but we do need to be able to override it; </a:t>
            </a:r>
            <a:br>
              <a:rPr sz="2000"/>
            </a:br>
            <a:r>
              <a:rPr b="0" lang="en-US" sz="2000" spc="-1" strike="noStrike">
                <a:solidFill>
                  <a:srgbClr val="000000"/>
                </a:solidFill>
                <a:latin typeface="Arial"/>
              </a:rPr>
              <a:t>e.g. should be larger for txn_checkpoint, infinity for db_get(CONSUME_WA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Turn the Port argument into a PortHandle recor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code never uses it as a plain Erlang port anyway (EDTK stubs do th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give it a useful type (based on the driver name), so callers can use is_record(P, bdb_port_handle) in guard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so store the group_valmap_id in the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des it from clients (who shouldn’t mess with it or share i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changing the signature of valmap “start” calls when the group_valmap_cleanup feature is enabl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low the driver to put other default arguments in the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DB driver uses this for DB_ENV (as only 1 is allows per 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 to add #1</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ids in valmap tup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ids in valmap tuples to prevent crash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concurrent (ref-counted) valmaps (DB_ENV and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Child valmap relationships (nested transac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_record for valma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_record for PortHan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b_stop() is fixed and made parallel to minimize blocking of the Erlang VM (as all valmaps must be freed before it returns and txn_abort may do IO/repli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_coordinator config handling, and house-kee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_coordinator:terminate/2 still does most cleanup manually (using group_valmap_cleanup_non_block), again to reduce block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_get(CONSUME_WA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_msg_queu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_sequence_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and event_notif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tions to add #2: </a:t>
            </a:r>
            <a:br>
              <a:rPr sz="4000"/>
            </a:br>
            <a:r>
              <a:rPr b="0" lang="en-US" sz="4000" spc="-1" strike="noStrike">
                <a:solidFill>
                  <a:srgbClr val="000000"/>
                </a:solidFill>
                <a:latin typeface="Arial"/>
              </a:rPr>
              <a:t>Fixed EDTK v1.1 bug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idn’t acquire the mutex  when accessing valmap arrays, but operations may still be in-fligh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oesn’t wait for in-progress operations involving first valmap type to finish before it starts closing valmaps of the second type (and so 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by wrapped library is leaked if no valmap slots are free after the call (solution was to reserve the slot when the command is receiv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DB driver installed allocation fundtions that called driver_alloc_binary in async workers (from within BDB code).  This resulting in memory corruption and segfaults under concurrent load (esp when other Erlang processes were doing stuff like ETS inser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id not call cleanup_.._index() for any valmap entries that are INUSE, so the code in cleanup_.._index() that sets DELAYED_CLEANUP is never activated, so some valmaps (that are in-use when stop is called) are never cleaned up.  (DELAYED_CLEANUP would self-deadlock if it was ever used, as cleanup_index() was called while desc-&gt;mutex was held, and cleanup_index tried to acquire the (non-recursive) mutex agai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needs to enable auto-BDB-deadlock detection, as if the app was calling the explicit deadlock detector frequently, it can nolonger do so once stop has been called, but operations might still be in progress that could deadloc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valmap 'start' operation is performed after stop is called (the async_free call is currently just sys_free (to free the callstate object), so nothing currently calls the valmap cleanup_func on the result of the library call made by invoke -- i.e. an object returned from the library (bdb) is leak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chewed up stack if it was not safe to return (valmaps still in u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up_index held mutex while calling cleanup function – which may take a long tim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main Lenglet’s patc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ixed EDTK v1.1 bug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env_close and dbenv_remove now flagged as global-exclusive operations.  These are not allowed if any valmaps are in-use at all.   (Not good enough – needs to be, if any operations are happening; not quite the same thing).  Also, BDB drive code refuses to do these if any valmap db, txn, cursor entries are alloc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_rename, db_remove, db_upgrade were not tagged as valmap "stop" operations, so the Db handle was left in the valmap array, and would crash during _sto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dbenv_set_errpfx as it made BDB refere to memory that was fre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_ansync would free binaries owned by callstate. But, after _stop() is called, _ready_async won't be called on any completed operations – the 'async_free' function passed to driver_async will be called instead.  This was set to sys_free, so the binaries would be leaked.  I made a new free_callstate func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Berkeley DB?</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rocess library (statically or dynamically lin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code quality – very low risk of destabilizing Erlang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flexi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 transactions (inc. fast recove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 and highly concurrent (even for wri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6 TB per-node data size lim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master replication/failover (to any number of replica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transactions if you need th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ycat Support is literally the best in the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n in many commercial mission-critical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good experience with BDB-HA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Mnesia/DE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S recovery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S 2GB per-node lim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con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nesia Fragmented Tables rely on Distributed Erlang, but we might need to scale beyond Distributed Erlang (to 1000’s of n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DB has a known operational profile (performance tuning, failure mo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Erlang Driver Toolkit </a:t>
            </a:r>
            <a:r>
              <a:rPr b="0" lang="en-US" sz="3200" spc="-1" strike="noStrike">
                <a:solidFill>
                  <a:srgbClr val="000000"/>
                </a:solidFill>
                <a:latin typeface="Arial"/>
              </a:rPr>
              <a:t>(written by Scott Lystig Fritchi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API wrapper / code-gene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s marshalling code for commands and respon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utputv and driver_output_term, so linked-in drivers can avoid copying binar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s resources allocated by the wrapped library (“valmaps”), and does automatic clean-up on ex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s the difference between linked-in drivers and pipe-mode driv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ds important operational flexi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us a HUGE amount of time. Thanks Sco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us of EDTK v1.1</a:t>
            </a:r>
            <a:br>
              <a:rPr sz="4000"/>
            </a:br>
            <a:r>
              <a:rPr b="0" lang="en-US" sz="4000" spc="-1" strike="noStrike">
                <a:solidFill>
                  <a:srgbClr val="000000"/>
                </a:solidFill>
                <a:latin typeface="Arial"/>
              </a:rPr>
              <a:t>examples/berkeley_db</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chosen due to it’s large API, to drive EDTK fea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for Berkeley DB v4.0 : now a very old vers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s in berkeley_db.xml need to change for each new BDB releas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BDB APIs wrapped but some important ones miss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ransaction support due to potential deadlock iss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ouse-keeping/admin APIs (checkpointing, statitist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plication support (was alpha-quality in BDB v4.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support for very useful APIs like db_get(CONSUME_WAI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ugs found in our tes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afety issues : e.g. ‘valmap’ tuples can be accidentally re-used (causing seg-fa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to Production Qual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TK’s presumed concurrency model is not a good match for BD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ertainly need transactions, so address deadlock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nested transactions, which requires valmap support (parent/child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db_get(CONSUME_WAIT) – transactional message queues are very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lexibility at runtime (e.g. avoid re-compile/re-deploy to change an arbitrary lim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Overview of BDB Objects </a:t>
            </a:r>
            <a:br>
              <a:rPr sz="3200"/>
            </a:br>
            <a:r>
              <a:rPr b="0" lang="en-US" sz="3200" spc="-1" strike="noStrike">
                <a:solidFill>
                  <a:srgbClr val="000000"/>
                </a:solidFill>
                <a:latin typeface="Arial"/>
              </a:rPr>
              <a:t>(managed by EDTK valmap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t>
            </a:r>
            <a:r>
              <a:rPr b="0" lang="en-US" sz="1800" spc="-1" strike="noStrike">
                <a:solidFill>
                  <a:srgbClr val="000000"/>
                </a:solidFill>
                <a:latin typeface="Arial"/>
              </a:rPr>
              <a:t> : A “Database”  (analogous to a table in relational system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s arbitrary binary (untyped) key-&gt;recor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corresponds to a single physical file   (page-orien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a BTREE (others are QUEUE, HASH, RECNO)</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_ENV</a:t>
            </a:r>
            <a:r>
              <a:rPr b="0" lang="en-US" sz="1800" spc="-1" strike="noStrike">
                <a:solidFill>
                  <a:srgbClr val="000000"/>
                </a:solidFill>
                <a:latin typeface="Arial"/>
              </a:rPr>
              <a:t> : A “Database “Environment”  (analogous to a relational datab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databases, transaction logs, and ‘region’ fi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gion’ files are IPC structures, plus a page-cache (critical for performan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st scope of normal transactions  (i.e. transactions can span datab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of replication (as it is done by log-shipping)</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_TXN</a:t>
            </a:r>
            <a:r>
              <a:rPr b="0" lang="en-US" sz="1800" spc="-1" strike="noStrike">
                <a:solidFill>
                  <a:srgbClr val="000000"/>
                </a:solidFill>
                <a:latin typeface="Arial"/>
              </a:rPr>
              <a:t> : a multi-step transactions  (can also do auto-commit operation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the application </a:t>
            </a:r>
            <a:r>
              <a:rPr b="0" i="1" lang="en-US" sz="1600" spc="-1" strike="noStrike">
                <a:solidFill>
                  <a:srgbClr val="000000"/>
                </a:solidFill>
                <a:latin typeface="Arial"/>
              </a:rPr>
              <a:t>must</a:t>
            </a:r>
            <a:r>
              <a:rPr b="0" lang="en-US" sz="1600" spc="-1" strike="noStrike">
                <a:solidFill>
                  <a:srgbClr val="000000"/>
                </a:solidFill>
                <a:latin typeface="Arial"/>
              </a:rPr>
              <a:t> enforce this; EDTK v1.1 do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step transactions hold locks between the step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C</a:t>
            </a:r>
            <a:r>
              <a:rPr b="0" lang="en-US" sz="1800" spc="-1" strike="noStrike">
                <a:solidFill>
                  <a:srgbClr val="000000"/>
                </a:solidFill>
                <a:latin typeface="Arial"/>
              </a:rPr>
              <a:t> : a cursor handle into a single datab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the application </a:t>
            </a:r>
            <a:r>
              <a:rPr b="0" i="1" lang="en-US" sz="1600" spc="-1" strike="noStrike">
                <a:solidFill>
                  <a:srgbClr val="000000"/>
                </a:solidFill>
                <a:latin typeface="Arial"/>
              </a:rPr>
              <a:t>must</a:t>
            </a:r>
            <a:r>
              <a:rPr b="0" lang="en-US" sz="1600" spc="-1" strike="noStrike">
                <a:solidFill>
                  <a:srgbClr val="000000"/>
                </a:solidFill>
                <a:latin typeface="Arial"/>
              </a:rPr>
              <a:t> enforce this ; EDTK v1.1 do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s a lock on the page it is 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opened within a multi-step transaction (which will accumulate loc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urrency Issue #1:</a:t>
            </a:r>
            <a:br>
              <a:rPr sz="3600"/>
            </a:br>
            <a:r>
              <a:rPr b="0" lang="en-US" sz="3600" spc="-1" strike="noStrike">
                <a:solidFill>
                  <a:srgbClr val="000000"/>
                </a:solidFill>
                <a:latin typeface="Arial"/>
              </a:rPr>
              <a:t>Erlang processes and Port instance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use BDB from a large number of Erlang proce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assumes that each Erlang process will open its own instance of the 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fine for some libraries, but not good for BDB:</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B startup and shutdown must be coordinated (single threaded), not a free-for-al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need to limit number of Erlang processes using BDB at any one time (avoid thrashing, huge queues/backlo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instances cannot share valmaps : Each Erlang process would open it’s own DB_ENV and DB hand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DB objects (DB_ENV, DB) are expensive to create, and are designed to be shared (thread-saf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_ENV and DB handles open files.  Many Erlang processes * many databases could easily exhaust file-descripto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DB features don’t allow multiple DB_ENV handles per OS process (DB_REGISTER, replic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ipe-mode, every port instance spawns a new OS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20:06:54Z</dcterms:created>
  <dc:creator>Chris Newcombe</dc:creator>
  <dc:description/>
  <dc:language>en-US</dc:language>
  <cp:lastModifiedBy>Administrator</cp:lastModifiedBy>
  <dcterms:modified xsi:type="dcterms:W3CDTF">2006-11-02T05:22:04Z</dcterms:modified>
  <cp:revision>284</cp:revision>
  <dc:subject/>
  <dc:title>A Production-Quality Driver for Berkeley DB Using the Erlang Driver Toolkit</dc:title>
</cp:coreProperties>
</file>